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9E5B-2BBA-4D2C-8125-6BCE449C04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1031-C62D-4682-A277-A5028C6E6B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DD76-B01A-4CD4-88EF-4FB8F741C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73C1-68B1-412D-AAFF-61FE6FDA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606A-3948-42CE-B440-012831BC5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336C-7238-4546-90CC-6F6C7323A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A6147-1530-4DEC-8BAC-20C293F5A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3F5B-1F56-4F5E-B16E-4AFB92B1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72A3-CA08-4562-BEF9-3A1D45C8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3853-79D3-47D6-9C94-9893B6CA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F485-817A-422E-8301-47FE1A6C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7CCB-11D1-4908-9766-47142B48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0C8F-A660-4230-A735-A607BF31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1AAB-F31E-4061-81E0-B0857E82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98C1-0801-4E80-AA89-2826C5FD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0E70-8520-4B0A-8F79-79BEA211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6293-E133-4B26-BE98-37EA7C60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8297-6248-4957-A35E-D68F1B765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D28E-591F-4CCA-A6FD-96255D828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20B6C-86F8-4763-9AFE-218C32DEA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0EB8C-E6A2-47AF-B1B9-2D8941B6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77069-393C-419D-B6C0-2B86C323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06575-850A-4483-ADEA-3CDEF6AB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42447-32CA-4AAB-AC36-237B7E59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3980-C14A-407F-BD58-8F57EE41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5DE7C-83F0-4CC8-B750-EAC3FC4E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54FEF-ACAA-4E9D-9773-B7A78B0F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85BD3-D5DB-4803-9626-F4816E28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804CC-73B4-4E2E-B78D-712096D1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74A94-AD26-41B1-95EE-046DC6E9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B546F-AA11-4C26-924E-0B1FCA27D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9F220-B986-49A3-BA0C-D2AB0C369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3D9A6-BE9F-47A6-AA44-1CBFF9E0D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6ADF7-120C-428B-A63C-D5A62500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5DF93-1033-4953-BA18-E421EE25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8DEA-B55E-4AAB-A2C8-C4C75605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11159-94D5-4891-9075-835977C1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3D092-2C9D-484F-AB36-97BCCBED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13D5D-84F9-423B-AFFD-4F53E4A8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10DFB-EFC3-4C1A-A575-890FD618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3BEFF-719E-47CB-9222-20DAE6E0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005AA-AF8F-463B-A770-B1CDA03D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F373A-7BB6-4814-BEC3-6B1BFFDE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616D6-2177-4CDC-9893-84EEF4583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858AD-0982-4AE0-8511-D8F0860EE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3A5D-4336-4E54-A529-C033ADEC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7030-6F58-4849-9B4C-9158F24C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338F-B6CE-4DF4-ACF9-943C0948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01C5-8FD4-442D-800B-2202EEE6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CDA8-4719-46BA-BF9B-172A3DBA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7240-A812-47F4-977B-1C2FDCFAC1E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1024-1C12-4BBD-AA93-1D10D213DCE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E130-EAEF-4430-914E-0769B78068C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3894-79C1-4C96-B24E-50722A74C1B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927000" y="-103320"/>
            <a:ext cx="8197920" cy="31878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0040" y="4929120"/>
            <a:ext cx="8229600" cy="1285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FEED THE C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Picture 2" descr="C:\Documents and Settings\user\Мои документы\feed_the_cat-CT.gif"/>
          <p:cNvPicPr/>
          <p:nvPr/>
        </p:nvPicPr>
        <p:blipFill>
          <a:blip r:embed="rId1"/>
          <a:stretch/>
        </p:blipFill>
        <p:spPr>
          <a:xfrm>
            <a:off x="1928880" y="1071720"/>
            <a:ext cx="550080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714920"/>
            <a:ext cx="8229600" cy="10000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GET DRESS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Picture 2" descr="C:\Documents and Settings\user\Мои документы\get_dressed-CT.gif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214720" y="1071720"/>
            <a:ext cx="492912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714920"/>
            <a:ext cx="8229600" cy="1285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SWEEP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Picture 2" descr="C:\Documents and Settings\user\Мои документы\sweep-CT.gif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2571840" y="857160"/>
            <a:ext cx="38574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5143680"/>
            <a:ext cx="8229600" cy="7142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STUDY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7" name="Picture 2" descr="C:\Documents and Settings\user\Мои документы\study-CT.gif"/>
          <p:cNvPicPr/>
          <p:nvPr/>
        </p:nvPicPr>
        <p:blipFill>
          <a:blip r:embed="rId1"/>
          <a:stretch/>
        </p:blipFill>
        <p:spPr>
          <a:xfrm>
            <a:off x="2928960" y="1143000"/>
            <a:ext cx="3500280" cy="3335400"/>
          </a:xfrm>
          <a:prstGeom prst="rect">
            <a:avLst/>
          </a:prstGeom>
          <a:ln w="25560">
            <a:solidFill>
              <a:srgbClr val="08509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929120"/>
            <a:ext cx="8229600" cy="9288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TAKE A BAT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Picture 2" descr="C:\Documents and Settings\user\Мои документы\take_a_bath-CT.gif"/>
          <p:cNvPicPr/>
          <p:nvPr/>
        </p:nvPicPr>
        <p:blipFill>
          <a:blip r:embed="rId1"/>
          <a:stretch/>
        </p:blipFill>
        <p:spPr>
          <a:xfrm>
            <a:off x="2428920" y="1500120"/>
            <a:ext cx="407196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000400"/>
            <a:ext cx="8229600" cy="1143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WASH THE DISHE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1" name="Picture 2" descr="C:\Documents and Settings\user\Мои документы\wash_the_dishes-CT.gif"/>
          <p:cNvPicPr/>
          <p:nvPr/>
        </p:nvPicPr>
        <p:blipFill>
          <a:blip r:embed="rId1"/>
          <a:stretch/>
        </p:blipFill>
        <p:spPr>
          <a:xfrm>
            <a:off x="2643120" y="1785960"/>
            <a:ext cx="335772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929120"/>
            <a:ext cx="8229600" cy="1214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WALK THE DO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3" name="Picture 2" descr="C:\Documents and Settings\user\Мои документы\walk_the_dog-CT.gif"/>
          <p:cNvPicPr/>
          <p:nvPr/>
        </p:nvPicPr>
        <p:blipFill>
          <a:blip r:embed="rId1"/>
          <a:stretch/>
        </p:blipFill>
        <p:spPr>
          <a:xfrm>
            <a:off x="2500200" y="1143000"/>
            <a:ext cx="385776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428720"/>
            <a:ext cx="8229600" cy="15001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WATCH  TV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Picture 2" descr="C:\Documents and Settings\user\Мои документы\watch_TV-CT.gif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2214720" y="1000080"/>
            <a:ext cx="435744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1640"/>
            <a:ext cx="8229600" cy="12142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GO TO BED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Picture 2" descr="C:\Documents and Settings\user\Мои документы\go_to_bed-CT.gif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2500200" y="1357200"/>
            <a:ext cx="40006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622440" y="5241960"/>
            <a:ext cx="8265960" cy="1689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1643040" y="785880"/>
            <a:ext cx="578664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57520" y="5215320"/>
            <a:ext cx="6572520" cy="107172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BRUSH MY HAI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Picture 2" descr="C:\Documents and Settings\user\Мои документы\brush_my_hair-CT.gif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357280" y="1071720"/>
            <a:ext cx="4500720" cy="3571560"/>
          </a:xfrm>
          <a:prstGeom prst="rect">
            <a:avLst/>
          </a:prstGeom>
          <a:ln w="25560">
            <a:solidFill>
              <a:srgbClr val="08509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4200" y="4929120"/>
            <a:ext cx="8229600" cy="10000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WASH MY FA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Picture 2" descr="C:\Documents and Settings\user\Мои документы\wash_my_face-CT.gif"/>
          <p:cNvPicPr/>
          <p:nvPr/>
        </p:nvPicPr>
        <p:blipFill>
          <a:blip r:embed="rId1"/>
          <a:stretch/>
        </p:blipFill>
        <p:spPr>
          <a:xfrm>
            <a:off x="2500200" y="928800"/>
            <a:ext cx="421488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1" descr=""/>
          <p:cNvPicPr/>
          <p:nvPr/>
        </p:nvPicPr>
        <p:blipFill>
          <a:blip r:embed="rId1"/>
          <a:stretch/>
        </p:blipFill>
        <p:spPr>
          <a:xfrm>
            <a:off x="695160" y="5052960"/>
            <a:ext cx="8180640" cy="1920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C:\Documents and Settings\user\Мои документы\do_homework-CT.gif"/>
          <p:cNvPicPr/>
          <p:nvPr/>
        </p:nvPicPr>
        <p:blipFill>
          <a:blip r:embed="rId2"/>
          <a:stretch/>
        </p:blipFill>
        <p:spPr>
          <a:xfrm>
            <a:off x="1428840" y="714240"/>
            <a:ext cx="64292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00360"/>
            <a:ext cx="8229600" cy="15001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COOK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Picture 3" descr="C:\Documents and Settings\user\Мои документы\cook-CT.gif"/>
          <p:cNvPicPr/>
          <p:nvPr/>
        </p:nvPicPr>
        <p:blipFill>
          <a:blip r:embed="rId1"/>
          <a:stretch/>
        </p:blipFill>
        <p:spPr>
          <a:xfrm>
            <a:off x="1643040" y="1143000"/>
            <a:ext cx="52149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785840"/>
            <a:ext cx="8229600" cy="1357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DRIN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Picture 2" descr="C:\Documents and Settings\user\Мои документы\drink_fluid-CT.gif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2143080" y="642960"/>
            <a:ext cx="49291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786200"/>
            <a:ext cx="8229600" cy="10000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EAT BREAKFA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Picture 2" descr="C:\Documents and Settings\user\Мои документы\eat_breakfast-CT.gif"/>
          <p:cNvPicPr/>
          <p:nvPr/>
        </p:nvPicPr>
        <p:blipFill>
          <a:blip r:embed="rId1"/>
          <a:stretch/>
        </p:blipFill>
        <p:spPr>
          <a:xfrm>
            <a:off x="2214720" y="785880"/>
            <a:ext cx="528624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4714560"/>
            <a:ext cx="8229600" cy="1609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EXERCISE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3" descr="C:\Documents and Settings\user\Мои документы\exercise-CT.gif"/>
          <p:cNvPicPr/>
          <p:nvPr/>
        </p:nvPicPr>
        <p:blipFill>
          <a:blip r:embed="rId1"/>
          <a:stretch/>
        </p:blipFill>
        <p:spPr>
          <a:xfrm>
            <a:off x="1928880" y="785880"/>
            <a:ext cx="4643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6T17:04:18Z</dcterms:created>
  <dc:creator>User</dc:creator>
  <dc:description/>
  <dc:language>en-US</dc:language>
  <cp:lastModifiedBy>Дом</cp:lastModifiedBy>
  <dcterms:modified xsi:type="dcterms:W3CDTF">2011-03-11T18:56:30Z</dcterms:modified>
  <cp:revision>16</cp:revision>
  <dc:subject/>
  <dc:title>               My day</dc:title>
</cp:coreProperties>
</file>